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79" name="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85" name="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e3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88" name="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3d43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205" name=""/>
            <p:cNvGrpSpPr/>
            <p:nvPr/>
          </p:nvGrpSpPr>
          <p:grpSpPr>
            <a:xfrm>
              <a:off x="441360" y="1828800"/>
              <a:ext cx="8305920" cy="4419720"/>
              <a:chOff x="441360" y="1828800"/>
              <a:chExt cx="8305920" cy="4419720"/>
            </a:xfrm>
          </p:grpSpPr>
          <p:sp>
            <p:nvSpPr>
              <p:cNvPr id="206" name=""/>
              <p:cNvSpPr/>
              <p:nvPr/>
            </p:nvSpPr>
            <p:spPr>
              <a:xfrm>
                <a:off x="44136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27520" y="2104920"/>
                <a:ext cx="442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finition of a Mineral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9712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lid- not liquid or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330192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urally occurring- not huma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90852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rganic- not alive- never w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13320"/>
            <a:ext cx="70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ed composition- element or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5119560"/>
            <a:ext cx="70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ystal- orderly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 &amp; Non Example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700"/>
                </a:solidFill>
                <a:latin typeface="Arial"/>
              </a:rPr>
              <a:t>quartz, halite, mica, gold, ga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89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700"/>
                </a:solidFill>
                <a:latin typeface="Arial"/>
              </a:rPr>
              <a:t>Water- not a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89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700"/>
                </a:solidFill>
                <a:latin typeface="Arial"/>
              </a:rPr>
              <a:t>Pearl- not inorg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89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700"/>
                </a:solidFill>
                <a:latin typeface="Arial"/>
              </a:rPr>
              <a:t>Coal- not inorg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700"/>
                </a:solidFill>
                <a:latin typeface="Arial"/>
              </a:rPr>
              <a:t>Most minerals are compou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9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Quartz- silicon and oxygen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9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Halite- sodium and chlorine N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89700"/>
                </a:solidFill>
                <a:latin typeface="Arial"/>
              </a:rPr>
              <a:t>Native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made up of single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ld 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per 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lfur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229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42640" y="2104920"/>
                <a:ext cx="392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How Minerals For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33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77344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Crystallization from mag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342756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Precipi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408312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Pressure and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73868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Hydrothermal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4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nerals Formed as a Result of Crystallization of Mag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43000" y="1752480"/>
            <a:ext cx="6705720" cy="4496040"/>
            <a:chOff x="1143000" y="1752480"/>
            <a:chExt cx="6705720" cy="4496040"/>
          </a:xfrm>
        </p:grpSpPr>
        <p:sp>
          <p:nvSpPr>
            <p:cNvPr id="255" name=""/>
            <p:cNvSpPr/>
            <p:nvPr/>
          </p:nvSpPr>
          <p:spPr>
            <a:xfrm>
              <a:off x="1143000" y="1752480"/>
              <a:ext cx="6705720" cy="44960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2057400" y="2133720"/>
              <a:ext cx="4989600" cy="357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258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43360" y="210492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ineral Group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6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69" name=""/>
          <p:cNvSpPr/>
          <p:nvPr/>
        </p:nvSpPr>
        <p:spPr>
          <a:xfrm>
            <a:off x="1295280" y="26668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classified based on their 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3657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1814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 and oxygen combine to form a structure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-oxygen tetrahedr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ilicon-oxygen tetrahedron provides the framework of ev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licate min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7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7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ilicon-Oxygen Tetrahed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1447920"/>
            <a:ext cx="7467480" cy="5181480"/>
            <a:chOff x="914400" y="1447920"/>
            <a:chExt cx="7467480" cy="5181480"/>
          </a:xfrm>
        </p:grpSpPr>
        <p:sp>
          <p:nvSpPr>
            <p:cNvPr id="283" name=""/>
            <p:cNvSpPr/>
            <p:nvPr/>
          </p:nvSpPr>
          <p:spPr>
            <a:xfrm>
              <a:off x="914400" y="1447920"/>
              <a:ext cx="746748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1828800" y="1682640"/>
              <a:ext cx="5562720" cy="464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8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9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licon-Oxygen Chains, Sheet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ree-Dimensional Net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90720" y="1447920"/>
            <a:ext cx="7162560" cy="5181480"/>
            <a:chOff x="990720" y="1447920"/>
            <a:chExt cx="7162560" cy="5181480"/>
          </a:xfrm>
        </p:grpSpPr>
        <p:sp>
          <p:nvSpPr>
            <p:cNvPr id="295" name=""/>
            <p:cNvSpPr/>
            <p:nvPr/>
          </p:nvSpPr>
          <p:spPr>
            <a:xfrm>
              <a:off x="990720" y="1447920"/>
              <a:ext cx="716256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3314880" y="1486080"/>
              <a:ext cx="2514600" cy="510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298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299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3360" y="210492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ineral Group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0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6120" y="2666880"/>
            <a:ext cx="70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Carbo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31798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contain the elements carbon, oxygen, and one or more other metallic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26708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Ox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828800" y="4724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contain oxygen and one or more other elements, which are usually met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1600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990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315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316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3360" y="210492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ineral Group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19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6120" y="2666880"/>
            <a:ext cx="70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ulfates and Sulf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31971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contain the element sulf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366552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Ha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419724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contain a halogen ion plus one or more other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503064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 Nativ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exist in relatively pur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3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3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lf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8600" y="1447920"/>
            <a:ext cx="8686800" cy="5181480"/>
            <a:chOff x="228600" y="1447920"/>
            <a:chExt cx="8686800" cy="5181480"/>
          </a:xfrm>
        </p:grpSpPr>
        <p:sp>
          <p:nvSpPr>
            <p:cNvPr id="343" name=""/>
            <p:cNvSpPr/>
            <p:nvPr/>
          </p:nvSpPr>
          <p:spPr>
            <a:xfrm>
              <a:off x="228600" y="1447920"/>
              <a:ext cx="8686800" cy="5181480"/>
            </a:xfrm>
            <a:prstGeom prst="roundRect">
              <a:avLst>
                <a:gd name="adj" fmla="val 1721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419040" y="2197080"/>
              <a:ext cx="8305920" cy="368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4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ive Co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14400" y="1447920"/>
            <a:ext cx="7467480" cy="5181480"/>
            <a:chOff x="914400" y="1447920"/>
            <a:chExt cx="7467480" cy="5181480"/>
          </a:xfrm>
        </p:grpSpPr>
        <p:sp>
          <p:nvSpPr>
            <p:cNvPr id="355" name=""/>
            <p:cNvSpPr/>
            <p:nvPr/>
          </p:nvSpPr>
          <p:spPr>
            <a:xfrm>
              <a:off x="914400" y="1447920"/>
              <a:ext cx="746748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1600200" y="1711440"/>
              <a:ext cx="6024600" cy="468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358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359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42280" y="210492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olor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6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6120" y="2940120"/>
            <a:ext cx="708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amounts of different elements can give the same mineral different col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sily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identify only a few min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lachite is always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urite is always b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or can change- tarnish, rust, c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372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43720" y="2104920"/>
                <a:ext cx="142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eak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76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2590920"/>
            <a:ext cx="7088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color of a mineral in its powdered fo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eak is always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eak is often different from the color of a mi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or colorless streak: Talc or gyp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y black- grap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d- hemat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-15840" y="-228600"/>
            <a:ext cx="9159840" cy="6248520"/>
            <a:chOff x="-15840" y="-228600"/>
            <a:chExt cx="9159840" cy="6248520"/>
          </a:xfrm>
        </p:grpSpPr>
        <p:grpSp>
          <p:nvGrpSpPr>
            <p:cNvPr id="386" name=""/>
            <p:cNvGrpSpPr/>
            <p:nvPr/>
          </p:nvGrpSpPr>
          <p:grpSpPr>
            <a:xfrm>
              <a:off x="441360" y="1600200"/>
              <a:ext cx="8305920" cy="4419720"/>
              <a:chOff x="441360" y="1600200"/>
              <a:chExt cx="8305920" cy="441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1360" y="16002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27160" y="1876320"/>
                <a:ext cx="142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uster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-15840" y="-228600"/>
              <a:ext cx="9159840" cy="1430280"/>
              <a:chOff x="-15840" y="-228600"/>
              <a:chExt cx="9159840" cy="1430280"/>
            </a:xfrm>
          </p:grpSpPr>
          <p:sp>
            <p:nvSpPr>
              <p:cNvPr id="390" name=""/>
              <p:cNvSpPr/>
              <p:nvPr/>
            </p:nvSpPr>
            <p:spPr>
              <a:xfrm>
                <a:off x="-9360" y="-22860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-15840" y="-228600"/>
                <a:ext cx="9159840" cy="136440"/>
                <a:chOff x="-15840" y="-228600"/>
                <a:chExt cx="9159840" cy="1364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-15840" y="-22860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-15840" y="-18432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-7920" y="990720"/>
                <a:ext cx="9144000" cy="210960"/>
                <a:chOff x="-7920" y="990720"/>
                <a:chExt cx="9144000" cy="2109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-7920" y="9907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-7920" y="10191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47920" y="2362320"/>
            <a:ext cx="708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used to describe how light is reflected from the surface of a min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allic- highly polished metal: silver, galena, grap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-metallic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54944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lassy- qua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54944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lky- malac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54944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easy-serpen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54944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illiant-diam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54944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arly-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0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0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yrite (Fool’s Gold) Display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allic Lus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676520" y="1447920"/>
            <a:ext cx="5867280" cy="5181480"/>
            <a:chOff x="1676520" y="1447920"/>
            <a:chExt cx="5867280" cy="5181480"/>
          </a:xfrm>
        </p:grpSpPr>
        <p:sp>
          <p:nvSpPr>
            <p:cNvPr id="409" name=""/>
            <p:cNvSpPr/>
            <p:nvPr/>
          </p:nvSpPr>
          <p:spPr>
            <a:xfrm>
              <a:off x="1676520" y="1447920"/>
              <a:ext cx="586728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2324160" y="1806480"/>
              <a:ext cx="4572000" cy="446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412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413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43000" y="2104920"/>
                <a:ext cx="268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rystal For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16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6120" y="2940120"/>
            <a:ext cx="708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ystal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visible expre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a mineral’s internal arrangement of ato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2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3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rtz Often Exhib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od Crystal F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90720" y="1523880"/>
            <a:ext cx="7162560" cy="4953240"/>
            <a:chOff x="990720" y="1523880"/>
            <a:chExt cx="7162560" cy="4953240"/>
          </a:xfrm>
        </p:grpSpPr>
        <p:sp>
          <p:nvSpPr>
            <p:cNvPr id="435" name=""/>
            <p:cNvSpPr/>
            <p:nvPr/>
          </p:nvSpPr>
          <p:spPr>
            <a:xfrm>
              <a:off x="990720" y="1523880"/>
              <a:ext cx="7162560" cy="49532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1333440" y="2614680"/>
              <a:ext cx="647712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438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439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143360" y="2104920"/>
                <a:ext cx="203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Hardnes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4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6120" y="2940120"/>
            <a:ext cx="708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rd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easure of the resistance of a mineral to being scratc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4343400"/>
            <a:ext cx="70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hs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ists of 10 minerals arranged from 10 (hardest) to 1 (softes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-15840" y="-609480"/>
            <a:ext cx="9159840" cy="6247800"/>
            <a:chOff x="-15840" y="-609480"/>
            <a:chExt cx="9159840" cy="6247800"/>
          </a:xfrm>
        </p:grpSpPr>
        <p:grpSp>
          <p:nvGrpSpPr>
            <p:cNvPr id="94" name=""/>
            <p:cNvGrpSpPr/>
            <p:nvPr/>
          </p:nvGrpSpPr>
          <p:grpSpPr>
            <a:xfrm>
              <a:off x="449280" y="1218960"/>
              <a:ext cx="8305920" cy="4419360"/>
              <a:chOff x="449280" y="1218960"/>
              <a:chExt cx="8305920" cy="4419360"/>
            </a:xfrm>
          </p:grpSpPr>
          <p:sp>
            <p:nvSpPr>
              <p:cNvPr id="95" name=""/>
              <p:cNvSpPr/>
              <p:nvPr/>
            </p:nvSpPr>
            <p:spPr>
              <a:xfrm>
                <a:off x="449280" y="1218960"/>
                <a:ext cx="8305920" cy="441936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136880" y="1494720"/>
                <a:ext cx="6433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ments and the Periodic Tabl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-15840" y="-609480"/>
              <a:ext cx="9159840" cy="1429200"/>
              <a:chOff x="-15840" y="-609480"/>
              <a:chExt cx="9159840" cy="1429200"/>
            </a:xfrm>
          </p:grpSpPr>
          <p:sp>
            <p:nvSpPr>
              <p:cNvPr id="98" name=""/>
              <p:cNvSpPr/>
              <p:nvPr/>
            </p:nvSpPr>
            <p:spPr>
              <a:xfrm>
                <a:off x="-9360" y="-609480"/>
                <a:ext cx="9144000" cy="121896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-15840" y="-609480"/>
                <a:ext cx="9159840" cy="136080"/>
                <a:chOff x="-15840" y="-609480"/>
                <a:chExt cx="9159840" cy="136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-15840" y="-60948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-15840" y="-565200"/>
                  <a:ext cx="9159840" cy="91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-7920" y="609480"/>
                <a:ext cx="9144000" cy="210240"/>
                <a:chOff x="-7920" y="609480"/>
                <a:chExt cx="9144000" cy="2102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-7920" y="60948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-7920" y="637560"/>
                  <a:ext cx="9144000" cy="18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9051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ic building block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miner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69339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er 100 elements are kn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oxygen, nitrogen, gold, silver, i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s: O, N, Au, Ag, 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2 letters (1st is capital, 2nd is lower cas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s from 1st letters of name: English, Latin or Gre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5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5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hs Scale of Hard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733920" y="1371600"/>
            <a:ext cx="4800600" cy="5181480"/>
            <a:chOff x="3733920" y="1371600"/>
            <a:chExt cx="4800600" cy="5181480"/>
          </a:xfrm>
        </p:grpSpPr>
        <p:sp>
          <p:nvSpPr>
            <p:cNvPr id="462" name=""/>
            <p:cNvSpPr/>
            <p:nvPr/>
          </p:nvSpPr>
          <p:spPr>
            <a:xfrm>
              <a:off x="3733920" y="1371600"/>
              <a:ext cx="4800600" cy="5181480"/>
            </a:xfrm>
            <a:custGeom>
              <a:avLst/>
              <a:gdLst>
                <a:gd name="textAreaLeft" fmla="*/ 311040 w 4800600"/>
                <a:gd name="textAreaRight" fmla="*/ 4489560 w 4800600"/>
                <a:gd name="textAreaTop" fmla="*/ 311040 h 5181480"/>
                <a:gd name="textAreaBottom" fmla="*/ 4870440 h 5181480"/>
              </a:gdLst>
              <a:ahLst/>
              <a:rect l="textAreaLeft" t="textAreaTop" r="textAreaRight" b="textAreaBottom"/>
              <a:pathLst>
                <a:path w="21600" h="23314">
                  <a:moveTo>
                    <a:pt x="4780" y="0"/>
                  </a:moveTo>
                  <a:arcTo wR="4780" hR="4780" stAng="16200000" swAng="-5400000"/>
                  <a:lnTo>
                    <a:pt x="0" y="18534"/>
                  </a:lnTo>
                  <a:arcTo wR="4780" hR="4780" stAng="10800000" swAng="-5400000"/>
                  <a:lnTo>
                    <a:pt x="16820" y="23314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1"/>
            <a:stretch/>
          </p:blipFill>
          <p:spPr>
            <a:xfrm>
              <a:off x="4656240" y="1447560"/>
              <a:ext cx="2957400" cy="502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"/>
          <p:cNvSpPr/>
          <p:nvPr/>
        </p:nvSpPr>
        <p:spPr>
          <a:xfrm>
            <a:off x="-3960" y="1905120"/>
            <a:ext cx="494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c- easily scratched with a fingern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psum- scratched with a fingern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- scratched by a pen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ite- scratched by a steel n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ite- barely scratches g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spar- easily scratches g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466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467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144440" y="2104920"/>
                <a:ext cx="148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leav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70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6120" y="2940120"/>
            <a:ext cx="7088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le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endency of a mineral to cleave, or break, along flat, even surf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Halite and 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8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8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ca Cleaves in One Dir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066680" y="1676520"/>
            <a:ext cx="6858000" cy="4724280"/>
            <a:chOff x="1066680" y="1676520"/>
            <a:chExt cx="6858000" cy="4724280"/>
          </a:xfrm>
        </p:grpSpPr>
        <p:sp>
          <p:nvSpPr>
            <p:cNvPr id="489" name=""/>
            <p:cNvSpPr/>
            <p:nvPr/>
          </p:nvSpPr>
          <p:spPr>
            <a:xfrm>
              <a:off x="1066680" y="1676520"/>
              <a:ext cx="6858000" cy="47242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1955880" y="2144880"/>
              <a:ext cx="5081400" cy="378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492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493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43000" y="2104920"/>
                <a:ext cx="1806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Fractur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96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2895480"/>
            <a:ext cx="70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that do not cleave when broken are said to fra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3808440"/>
            <a:ext cx="70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even breakag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in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Quartz and Asb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07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12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hoidal Fra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09480" y="1523880"/>
            <a:ext cx="7391520" cy="5181840"/>
            <a:chOff x="609480" y="1523880"/>
            <a:chExt cx="7391520" cy="5181840"/>
          </a:xfrm>
        </p:grpSpPr>
        <p:sp>
          <p:nvSpPr>
            <p:cNvPr id="516" name=""/>
            <p:cNvSpPr/>
            <p:nvPr/>
          </p:nvSpPr>
          <p:spPr>
            <a:xfrm>
              <a:off x="609480" y="1523880"/>
              <a:ext cx="7391520" cy="51818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1"/>
            <a:stretch/>
          </p:blipFill>
          <p:spPr>
            <a:xfrm>
              <a:off x="1371600" y="1735200"/>
              <a:ext cx="5867280" cy="476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519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143360" y="2104920"/>
                <a:ext cx="164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nsit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523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6120" y="2940120"/>
            <a:ext cx="708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ns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property of all matter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ratio of an object’s mass to its volu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44800" y="2104920"/>
                <a:ext cx="661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istinctive Properties of Mineral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537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Properties of Mine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371600" y="2940120"/>
            <a:ext cx="708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minerals can be recognized by other distinctive proper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id test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lc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“fizz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ste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al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astes like s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gnetic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gnet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magnetic (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uorescent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luo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“glow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7760" indent="-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ll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ulf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mells like rotten eg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109" name=""/>
            <p:cNvGrpSpPr/>
            <p:nvPr/>
          </p:nvGrpSpPr>
          <p:grpSpPr>
            <a:xfrm>
              <a:off x="441360" y="1828800"/>
              <a:ext cx="8305920" cy="4419720"/>
              <a:chOff x="441360" y="1828800"/>
              <a:chExt cx="8305920" cy="4419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4136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27520" y="210492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13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20" name=""/>
          <p:cNvSpPr/>
          <p:nvPr/>
        </p:nvSpPr>
        <p:spPr>
          <a:xfrm>
            <a:off x="1295280" y="28335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allest particles of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3861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ll the characteristics of an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5410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tron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have neutral electrical char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9387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part of an atom and co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9179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n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have positive electrical char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43360" y="210492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31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2400" y="2841480"/>
            <a:ext cx="44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ergy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357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 the nucl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809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negatively charged part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26708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nucleus of an a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15840" y="0"/>
            <a:ext cx="9159840" cy="1430280"/>
            <a:chOff x="-15840" y="0"/>
            <a:chExt cx="9159840" cy="1430280"/>
          </a:xfrm>
        </p:grpSpPr>
        <p:sp>
          <p:nvSpPr>
            <p:cNvPr id="144" name=""/>
            <p:cNvSpPr/>
            <p:nvPr/>
          </p:nvSpPr>
          <p:spPr>
            <a:xfrm>
              <a:off x="-936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-15840" y="0"/>
              <a:ext cx="9159840" cy="136440"/>
              <a:chOff x="-15840" y="0"/>
              <a:chExt cx="9159840" cy="136440"/>
            </a:xfrm>
          </p:grpSpPr>
          <p:sp>
            <p:nvSpPr>
              <p:cNvPr id="146" name=""/>
              <p:cNvSpPr/>
              <p:nvPr/>
            </p:nvSpPr>
            <p:spPr>
              <a:xfrm>
                <a:off x="-1584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-1584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7920" y="1219320"/>
              <a:ext cx="9144000" cy="210960"/>
              <a:chOff x="-7920" y="1219320"/>
              <a:chExt cx="9144000" cy="210960"/>
            </a:xfrm>
          </p:grpSpPr>
          <p:sp>
            <p:nvSpPr>
              <p:cNvPr id="149" name=""/>
              <p:cNvSpPr/>
              <p:nvPr/>
            </p:nvSpPr>
            <p:spPr>
              <a:xfrm>
                <a:off x="-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-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of an 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1676520"/>
            <a:ext cx="7467480" cy="4876560"/>
            <a:chOff x="914400" y="1676520"/>
            <a:chExt cx="7467480" cy="4876560"/>
          </a:xfrm>
        </p:grpSpPr>
        <p:sp>
          <p:nvSpPr>
            <p:cNvPr id="153" name=""/>
            <p:cNvSpPr/>
            <p:nvPr/>
          </p:nvSpPr>
          <p:spPr>
            <a:xfrm>
              <a:off x="914400" y="1676520"/>
              <a:ext cx="7467480" cy="4876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1434960" y="2031840"/>
              <a:ext cx="6425640" cy="41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56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3720" y="2104920"/>
                <a:ext cx="185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Isotope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60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7" name=""/>
          <p:cNvSpPr/>
          <p:nvPr/>
        </p:nvSpPr>
        <p:spPr>
          <a:xfrm>
            <a:off x="1371600" y="441972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sotopes are radioactive and emit energy and parti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819520"/>
            <a:ext cx="7162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oto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an element have the same number of protons but varying numbers of neutr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581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different mass numbers: the sum of the neutrons plus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334120"/>
            <a:ext cx="738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4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s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number of neutrons and protons in the nucleus of an a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73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74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42280" y="2104920"/>
                <a:ext cx="356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Why Atoms Bond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77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4" name=""/>
          <p:cNvSpPr/>
          <p:nvPr/>
        </p:nvSpPr>
        <p:spPr>
          <a:xfrm>
            <a:off x="1905120" y="4419720"/>
            <a:ext cx="6705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ists of two or more elements that are chemically combined in specific propor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2743200"/>
            <a:ext cx="708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n atom’s outermost energy level does not contain the maximum number of electrons, the atom is likely to for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b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one or more ato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486400"/>
            <a:ext cx="693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atom that gains or loses elect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89" name="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44080" y="2104920"/>
                <a:ext cx="5260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ypes of Chemical Bonds 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0" name=""/>
          <p:cNvSpPr/>
          <p:nvPr/>
        </p:nvSpPr>
        <p:spPr>
          <a:xfrm>
            <a:off x="1371600" y="2716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on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between positive and negative 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374184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valent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atoms share electr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4768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tall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metal ions share electr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PSD</cp:lastModifiedBy>
  <cp:lastPrinted>2009-04-22T19:24:48Z</cp:lastPrinted>
  <dcterms:modified xsi:type="dcterms:W3CDTF">2009-11-20T19:59:43Z</dcterms:modified>
  <cp:revision>349</cp:revision>
  <dc:subject/>
  <dc:title>Volcanoes and Igneous Activity  Earth  -  Chapter 4</dc:title>
</cp:coreProperties>
</file>